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E2F-FEC2-4390-84D6-30B726BD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E13-1BFB-4AF7-9609-5170B64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FE8-ECB3-4A8A-879E-8A5AA9D9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AB4-0F92-4DEB-9FED-9A961E2C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C47-0DC0-46C9-8AA4-6706F5F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DBB-A058-4337-A12B-C5B39AA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919-9E77-4284-A559-DC650CE7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8E-8BDC-4E2B-9768-E95E3247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13F-9C69-4825-A59C-4297B46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E77-C50B-4A7D-B26C-161B221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C4B-68C5-43EA-B0B5-005DD382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05D-7420-4FB4-A234-7069062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361-BF63-4DD7-BFEE-74861342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ase-Contro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298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7010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59436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46784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69608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381024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8080" y="3352680"/>
            <a:ext cx="365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4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828800"/>
            <a:ext cx="1143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934320" cy="198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93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2:14:17Z</dcterms:modified>
  <cp:revision>41</cp:revision>
  <dc:subject/>
  <dc:title>PowerPoint Presentation</dc:title>
</cp:coreProperties>
</file>